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10D-B711-440A-BC91-52D3C18A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9F3-F657-4463-B8B4-72A29D54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58C-FD0E-4BC7-BB6F-5D953AC1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A73-BB19-4398-846D-F9180B53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ED3-3840-4E8E-BA7E-1D573421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6D8-8E4A-414C-ADE3-D6D3FB9B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D15-CCFC-41DD-8200-E4316C6E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6F6-11F6-4A1C-B141-B08B15B3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899-F780-4E10-A263-73315FF7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801-D3B3-4A43-BCE8-8A5D1198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DAA-3A43-454F-AF23-2C35F51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D2B-D5F3-4668-9593-0A53FE57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6F79-6CF9-4FED-8BAB-937F73D003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18T05:45:47Z</dcterms:modified>
  <cp:revision>807</cp:revision>
  <dc:subject/>
  <dc:title>Free PPT Backgrounds</dc:title>
</cp:coreProperties>
</file>